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7DBC-B5A8-4D5E-91A4-F8DFF9CF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0FC-A5C4-4375-B47C-62E2C338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25A8-758E-4AE8-BF02-A4B3E72E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4837-1107-41BC-AB1D-BE881B00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C5AF-5BE3-4660-AE39-439B6C4C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686-0459-4B9A-8AD2-C56DF25E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79D-D031-4A40-A459-0B21FFBB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0D71-253F-46A0-BB3A-1D69F4D3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756-DA91-4231-BD00-B213465F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333D-C6BE-45F5-B8D5-CAAD601E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EAA2-AC6D-4F6B-919C-8246FF3E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FD3-0651-4623-9F83-92718858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7E06-B3CF-41DC-8354-F19A19784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l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Midf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ila Dahd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enoscap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X </a:t>
            </a:r>
            <a:r>
              <a:rPr b="0" i="1" lang="en-US" sz="1800" spc="-1" strike="noStrike">
                <a:solidFill>
                  <a:srgbClr val="000000"/>
                </a:solidFill>
                <a:latin typeface="Lucida Grande"/>
              </a:rPr>
              <a:t>overlaps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Y =def. for every t and every x, if x 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instance_of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X at t, then there is some instance y of Y at t such that (x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 overlaps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y at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overlaps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y at t =def. there is some z such that z is 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part_of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x at t and z 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part_of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y at t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18280" y="425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2520" y="4784760"/>
            <a:ext cx="74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efinition in RO_proposed is spatial, not mer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411480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6280" y="1066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2651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038120" y="1371600"/>
            <a:ext cx="129564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0200" y="502920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t_of Bo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8040" y="556272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t_of Synovial J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8040" y="6095880"/>
            <a:ext cx="43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e 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verla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ynovial J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4720" y="1965240"/>
            <a:ext cx="348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overlaps, rather th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inition, avoids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name ‘A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29520" cy="3048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19720" y="990720"/>
            <a:ext cx="19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on 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13716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478476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is portion of axon in axon 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Note that it can be the case that X overlaps Y as thus defined, even though Y does not overlap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hus uterine tracts overlaps urinogenital sysem but not uriongenital system OVERLAPS uterine tract (because of male urinogenital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ctually uterine tract is part_of urinogenital system, which raises the question of whether each of X's parts overlaps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Overlaps at a fine grain may play a role in the definition of connected_to (keep in min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8:32:12Z</dcterms:created>
  <dc:creator>Peter E. Midford</dc:creator>
  <dc:description/>
  <dc:language>en-US</dc:language>
  <cp:lastModifiedBy>Peter E. Midford</cp:lastModifiedBy>
  <dcterms:modified xsi:type="dcterms:W3CDTF">2008-05-19T17:20:25Z</dcterms:modified>
  <cp:revision>11</cp:revision>
  <dc:subject/>
  <dc:title>PowerPoint Presentation</dc:title>
</cp:coreProperties>
</file>